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062-8D5A-471F-B6A1-F1F96C9B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AE8-65B6-4D9D-BA99-461768AE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569-36DB-4E34-8C65-EF7F8EFF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F65-CAE1-4000-A27F-6168229E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5B9-B9E3-4028-8869-248CA6BE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C18-8DF5-4E00-9A1B-B23DEFF3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FF8-D8D4-437A-B0E7-D4A03A04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E96-3D4A-4193-AC41-7E90B38D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671-7D66-487E-912B-9E6A5B1E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770-007C-4C45-AC89-8EB1368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C19-3B90-4409-A7AF-70B2530F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789-BD8C-4309-9154-3D5EACB0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56D8-8F57-46C1-A9EF-FA9C667E830D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../&#201;RASE%20QUE%20SE%20ERA.pps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9720" y="1166400"/>
            <a:ext cx="542916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Baila, baila, baila, con…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42" name="Picture 11" descr="zapatilla+rojas+fragmento+02"/>
          <p:cNvPicPr/>
          <p:nvPr/>
        </p:nvPicPr>
        <p:blipFill>
          <a:blip r:embed="rId1"/>
          <a:stretch/>
        </p:blipFill>
        <p:spPr>
          <a:xfrm>
            <a:off x="2143080" y="2266920"/>
            <a:ext cx="2786040" cy="5070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00040" y="7167600"/>
            <a:ext cx="6172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As zapatillas vermellas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 de </a:t>
            </a:r>
            <a:r>
              <a:rPr b="1" lang="gl-ES" sz="4000" spc="-1" strike="noStrike">
                <a:solidFill>
                  <a:srgbClr val="ff0000"/>
                </a:solidFill>
                <a:latin typeface="DK Thievery"/>
              </a:rPr>
              <a:t>Hans Christian Ander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800C-398C-4C8F-BC7E-63D290FB022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52240"/>
            <a:ext cx="56577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DK Thievery"/>
              </a:rPr>
              <a:t>Atención: lúa chea!</a:t>
            </a:r>
            <a:endParaRPr b="0" lang="en-US" sz="48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46" name="Picture 4" descr="hombres-lobos-europeos"/>
          <p:cNvPicPr/>
          <p:nvPr/>
        </p:nvPicPr>
        <p:blipFill>
          <a:blip r:embed="rId1"/>
          <a:srcRect l="0" t="0" r="0" b="12217"/>
          <a:stretch/>
        </p:blipFill>
        <p:spPr>
          <a:xfrm>
            <a:off x="1714680" y="2452680"/>
            <a:ext cx="3703320" cy="3338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1428840" y="6024600"/>
            <a:ext cx="42148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Hai lobishomes a esgalla 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DK Thievery"/>
              </a:rPr>
              <a:t>relato popular</a:t>
            </a: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5B1F-D09C-4A1B-BF30-CCAE0A03AA2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8480" y="1116000"/>
            <a:ext cx="3786120" cy="29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Gatipedro: “visitante nocturno que fai que os nenos mollen a cama”</a:t>
            </a:r>
            <a:br>
              <a:rPr sz="4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0" name="3 Imagen" descr="GATIPEDRO.jpg"/>
          <p:cNvPicPr/>
          <p:nvPr/>
        </p:nvPicPr>
        <p:blipFill>
          <a:blip r:embed="rId1"/>
          <a:stretch/>
        </p:blipFill>
        <p:spPr>
          <a:xfrm>
            <a:off x="1857240" y="3187800"/>
            <a:ext cx="3143520" cy="4327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85840" y="6116760"/>
            <a:ext cx="63259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Os outros feirantes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 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de </a:t>
            </a:r>
            <a:r>
              <a:rPr b="1" lang="gl-ES" sz="4000" spc="-1" strike="noStrike">
                <a:solidFill>
                  <a:srgbClr val="ff0000"/>
                </a:solidFill>
                <a:latin typeface="DK Thievery"/>
              </a:rPr>
              <a:t>Álvaro Cunqueiro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F358-7DC1-4298-A5CC-377BCCD596C2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023480"/>
            <a:ext cx="5943600" cy="20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DK Thievery"/>
              </a:rPr>
              <a:t>-Onde aniña o medo?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4" name="Picture 4" descr="miedo_638426119f30dc728b667f848dec83f1"/>
          <p:cNvPicPr/>
          <p:nvPr/>
        </p:nvPicPr>
        <p:blipFill>
          <a:blip r:embed="rId1"/>
          <a:stretch/>
        </p:blipFill>
        <p:spPr>
          <a:xfrm>
            <a:off x="1500120" y="2523960"/>
            <a:ext cx="4071960" cy="404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428760" y="6524640"/>
            <a:ext cx="617220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DK Thievery"/>
              </a:rPr>
              <a:t>Nos contos de </a:t>
            </a:r>
            <a:r>
              <a:rPr b="1" lang="es-ES_tradnl" sz="4400" spc="-1" strike="noStrike">
                <a:solidFill>
                  <a:srgbClr val="ff0000"/>
                </a:solidFill>
                <a:latin typeface="DK Thievery"/>
              </a:rPr>
              <a:t>Poe, </a:t>
            </a:r>
            <a:r>
              <a:rPr b="1" lang="es-ES_tradnl" sz="4000" spc="-1" strike="noStrike">
                <a:solidFill>
                  <a:srgbClr val="ff0000"/>
                </a:solidFill>
                <a:latin typeface="DK Thievery"/>
              </a:rPr>
              <a:t>Maupassant</a:t>
            </a:r>
            <a:r>
              <a:rPr b="1" lang="es-ES_tradnl" sz="4400" spc="-1" strike="noStrike">
                <a:solidFill>
                  <a:srgbClr val="ff0000"/>
                </a:solidFill>
                <a:latin typeface="DK Thievery"/>
              </a:rPr>
              <a:t>, </a:t>
            </a:r>
            <a:r>
              <a:rPr b="1" lang="es-ES_tradnl" sz="3600" spc="-1" strike="noStrike">
                <a:solidFill>
                  <a:srgbClr val="ff0000"/>
                </a:solidFill>
                <a:latin typeface="DK Thievery"/>
              </a:rPr>
              <a:t>Lovecra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DK Thievery"/>
              </a:rPr>
              <a:t>Mary Shelley</a:t>
            </a:r>
            <a:r>
              <a:rPr b="1" lang="es-ES_tradnl" sz="3600" spc="-1" strike="noStrike">
                <a:solidFill>
                  <a:srgbClr val="ff0000"/>
                </a:solidFill>
                <a:latin typeface="DK Thievery"/>
              </a:rPr>
              <a:t>, </a:t>
            </a:r>
            <a:r>
              <a:rPr b="1" lang="es-ES_tradnl" sz="2400" spc="-1" strike="noStrike">
                <a:solidFill>
                  <a:srgbClr val="ff0000"/>
                </a:solidFill>
                <a:latin typeface="DK Thievery"/>
              </a:rPr>
              <a:t>Stevens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D649-F837-49B8-B90E-38CE9546D9D0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6800" y="1333080"/>
            <a:ext cx="507204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Por que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os superheroes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levan traxes axustados?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8" name="Picture 4" descr="daredevil-reboot-movie"/>
          <p:cNvPicPr/>
          <p:nvPr/>
        </p:nvPicPr>
        <p:blipFill>
          <a:blip r:embed="rId1"/>
          <a:stretch/>
        </p:blipFill>
        <p:spPr>
          <a:xfrm>
            <a:off x="1378080" y="3860640"/>
            <a:ext cx="4265640" cy="2878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428760" y="6595920"/>
            <a:ext cx="596556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gl-ES" sz="4800" spc="-1" strike="noStrike">
                <a:solidFill>
                  <a:srgbClr val="000000"/>
                </a:solidFill>
                <a:latin typeface="DK Thievery"/>
              </a:rPr>
              <a:t>Daredev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800" spc="-1" strike="noStrike">
                <a:solidFill>
                  <a:srgbClr val="000000"/>
                </a:solidFill>
                <a:latin typeface="DK Thievery"/>
              </a:rPr>
              <a:t>de </a:t>
            </a:r>
            <a:r>
              <a:rPr b="1" lang="gl-ES" sz="4800" spc="-1" strike="noStrike">
                <a:solidFill>
                  <a:srgbClr val="ff0000"/>
                </a:solidFill>
                <a:latin typeface="DK Thievery"/>
              </a:rPr>
              <a:t>MAR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DA2F-655E-4CAF-B3B9-13F4D1162282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1380960"/>
            <a:ext cx="6172200" cy="260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Fantasiosos, sí, pero... científicos tamén.</a:t>
            </a:r>
            <a:br>
              <a:rPr sz="4000"/>
            </a:b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Da terra á lúa 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de</a:t>
            </a: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000000"/>
                </a:solidFill>
                <a:latin typeface="DK Thievery"/>
              </a:rPr>
              <a:t>Jules Verne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2" name="Picture 4" descr="cuento-viaje_luna-quellegamos"/>
          <p:cNvPicPr/>
          <p:nvPr/>
        </p:nvPicPr>
        <p:blipFill>
          <a:blip r:embed="rId1"/>
          <a:srcRect l="0" t="20900" r="0" b="0"/>
          <a:stretch/>
        </p:blipFill>
        <p:spPr>
          <a:xfrm>
            <a:off x="1428840" y="4146480"/>
            <a:ext cx="4048200" cy="30211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285840" y="7453440"/>
            <a:ext cx="617220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Da terra á lúa 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de</a:t>
            </a: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ff0000"/>
                </a:solidFill>
                <a:latin typeface="DK Thievery"/>
              </a:rPr>
              <a:t>Jules Ver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935B-8699-43A5-B0D1-A02EA50C5DD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4360" y="1666440"/>
            <a:ext cx="622944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DK Thievery"/>
              </a:rPr>
              <a:t>Salvar a Terra Media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6" name="Picture 4" descr="baston_luminoso"/>
          <p:cNvPicPr/>
          <p:nvPr/>
        </p:nvPicPr>
        <p:blipFill>
          <a:blip r:embed="rId1"/>
          <a:srcRect l="0" t="7087" r="0" b="9055"/>
          <a:stretch/>
        </p:blipFill>
        <p:spPr>
          <a:xfrm>
            <a:off x="2000160" y="2738520"/>
            <a:ext cx="2952720" cy="3995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285840" y="6810480"/>
            <a:ext cx="6110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DK Thievery"/>
              </a:rPr>
              <a:t>O señor dos aneis </a:t>
            </a:r>
            <a:br>
              <a:rPr sz="4400"/>
            </a:br>
            <a:r>
              <a:rPr b="1" lang="es-ES_tradnl" sz="4400" spc="-1" strike="noStrike">
                <a:solidFill>
                  <a:srgbClr val="ff0000"/>
                </a:solidFill>
                <a:latin typeface="DK Thievery"/>
              </a:rPr>
              <a:t>JRR Tolk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E1D9-5B44-4871-B1A1-A4ED3EB21ED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0080" y="1881000"/>
            <a:ext cx="4881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Cando os clásic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fantasean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155520" y="49320"/>
            <a:ext cx="298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155520" y="49320"/>
            <a:ext cx="298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Saramago, el genio que se cargó a Los Pirineos"/>
          <p:cNvPicPr/>
          <p:nvPr/>
        </p:nvPicPr>
        <p:blipFill>
          <a:blip r:embed="rId1"/>
          <a:stretch/>
        </p:blipFill>
        <p:spPr>
          <a:xfrm>
            <a:off x="1714680" y="3452760"/>
            <a:ext cx="3473280" cy="2873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428760" y="6595920"/>
            <a:ext cx="61722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DK Thievery"/>
              </a:rPr>
              <a:t>La balsa de pied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DK Thievery"/>
              </a:rPr>
              <a:t>José Saram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7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BEE-B0B9-429C-AF5E-889C359203E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Rectángulo">
            <a:hlinkClick r:id="rId2"/>
          </p:cNvPr>
          <p:cNvSpPr/>
          <p:nvPr/>
        </p:nvSpPr>
        <p:spPr>
          <a:xfrm>
            <a:off x="3143160" y="8453520"/>
            <a:ext cx="714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9:53:58Z</dcterms:created>
  <dc:creator>WinuE</dc:creator>
  <dc:description/>
  <dc:language>en-US</dc:language>
  <cp:lastModifiedBy>Usuario</cp:lastModifiedBy>
  <dcterms:modified xsi:type="dcterms:W3CDTF">2013-04-15T09:43:42Z</dcterms:modified>
  <cp:revision>27</cp:revision>
  <dc:subject/>
  <dc:title>Alicia no  País das Marabillas</dc:title>
</cp:coreProperties>
</file>